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CDC-19CA-4693-8F51-DE34E8D1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006-2195-4A88-B797-369B35F6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C60-EE6D-4E66-B2F2-8FF95AB3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E8F-3482-457E-8DB6-0C23798A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F1D-0EAE-4BC0-A789-BC8FAA5F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D41-7A93-475E-BBBF-45165796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3EC2-2B0E-42B6-98EB-6B287E4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A70B-E3D1-48E5-841E-3AD9C92D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B690-30EB-4FBF-9D9C-A0AC800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BB3-5D33-494A-A8F5-6B0A6F8F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0BD-0AE5-4676-B4AF-FF74EC0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CFC-B785-4D21-824F-373D7C5C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E378-98FF-4260-860D-9C56507D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D7BB-D5E2-4AD0-8918-53A51BFB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71E7-0E46-45E9-8770-B180453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C450-D13E-4BF1-B474-64719B20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D99C-11DB-45DC-B7CC-60FCF8F6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26EB-F8B4-431C-97A0-0ED95E4D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610C-BA3A-4C8E-914D-A9DFFEBC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AA08-B13B-4BDB-B1EB-ECE5BB0E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9814-FD71-40B9-BADE-FCCED32D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220F-E352-4836-A24C-AB0E62F4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392-AA91-458A-90CD-ED4F1AF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9247-9F91-4C78-9E4F-3D8FAB8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BE21-7C23-44C5-B3DD-F22BAC5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AD88-A417-4AE4-9A6D-C9F1EE5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83CB-A323-4980-9E9E-A9EC56F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7FFC-43C5-42EB-AED0-196113C7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FF78-38C7-4635-BC6C-26716956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822B-FE3E-4AD6-9CFB-ADB07D90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0B104-11EB-480D-83E4-4C1790AB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9F01-DF4C-405F-8F51-FDA9618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C401-29E3-495F-800C-5856955A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A92-A4C9-46F5-84F0-14FB981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F8C2-67AC-49CA-8686-6C7B1D84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BDE2-B290-4230-9C95-92396EB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F163-EDF4-4027-A1AF-3007ACFB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596F-820A-4F1D-91C9-1470F1D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1C2C-7A64-46EA-9545-DE464640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F5F2-81DB-4320-94F9-0344758B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4618-C5D3-4635-9D85-949F2D8C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2CB2-C726-4C4D-A5D0-A0934AAB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04ADA-390C-40F5-8C26-FA2FCAE5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B56-A259-4898-9EE1-21531C75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308-6344-48FB-B2DB-B5D82EE3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2B4-508D-4473-B0A8-1FB962E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EE6-0DED-4ED9-89A7-8438E7C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8F9-36BF-444F-AB0C-49CB947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70A7-A02B-45C1-8236-235B1C1195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54F-BAE5-4A22-A2F6-0FF1838191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9578-1D54-4BAA-929D-27C46C00C7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397B-649F-4B2B-9D6E-81C5CE2481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e2d700"/>
                </a:solidFill>
                <a:latin typeface="Arial"/>
              </a:rPr>
              <a:t>РЕГУЛАЦИЈА ГЕНСКЕ АКТИВНОСТИ</a:t>
            </a:r>
            <a:r>
              <a:rPr b="1" lang="en-US" sz="5600" spc="-1" strike="noStrike">
                <a:solidFill>
                  <a:srgbClr val="e2d700"/>
                </a:solidFill>
                <a:latin typeface="Arial"/>
              </a:rPr>
              <a:t> КОД ЕУКАРИОТА</a:t>
            </a:r>
            <a:endParaRPr b="0" lang="en-US" sz="5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5530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крип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л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) Метилација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3124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зивање метил гр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 цитозин (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промотору транскрипционе једин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транскрипциј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табилизује нуклеозомалну структуру чиме је отежано отварање хроматина за транскрипциј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зим одговоран за метилацију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МЕТИЛ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 метилисани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у другом ланцу повезује са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Деметилац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тилација ј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овији еволутивни  механиза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нтроле г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илација у соматској ћелији се наслеђује кроз деобе, па ћерке ћелије имају исте инактивисане гене као мајка ћелиј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облик ћелијске мемор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 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, метилација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ПИГЕН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Ч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КИ регулаторни механизам.</a:t>
            </a: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Gene regulation 16"/>
          <p:cNvPicPr/>
          <p:nvPr/>
        </p:nvPicPr>
        <p:blipFill>
          <a:blip r:embed="rId1"/>
          <a:stretch/>
        </p:blipFill>
        <p:spPr>
          <a:xfrm>
            <a:off x="533520" y="1295280"/>
            <a:ext cx="3016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ри феномена укључују метилацију као механизам активације ге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лијска диферен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активација Х 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омски импринт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Диференцијација ћелиј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нива се на ћелијској меморији - ћерке ћелије имају исте искључене гене као мајка ћел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мерена је диференцијација ћелија у одређеном прав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2. Инактивација Х хромозома - Барово тело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на компензација гена код жена у односу на мушка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ђује се кроз митотичке део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инактивације –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 инактивациони цент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у њему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ST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се на инактивном Х хромозому је активан - транскрибује се на инактиваторне РНК (Барово тел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на активном Х хромозому је искључен метилациј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 мејоз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cc"/>
                </a:solidFill>
                <a:latin typeface="Arial"/>
              </a:rPr>
              <a:t>деметила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3. Геном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ње функције гена у зависности од ког родитеља је ген наслеђ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снови је метилација ДН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 се током гаметоген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генски импринтинг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хромозомски импринтинг</a:t>
            </a:r>
            <a:r>
              <a:rPr b="0" lang="sr-CS" sz="23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Матерн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јчин ген искључен, испољава се функција очевог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Патерналн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ев ген искључен, испољава се функција мајчиног ге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ромозомски импринтинг -</a:t>
            </a: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Унипарентална дизомија (УД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о хромозомски пар у диплоидном сету води порекло од једног родит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ози настанка У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лођење дизомичног гамета нулизомич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љење хромозома из тризомичног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вајање хромозома у монозомичном зиготу -изодизо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. Прадер Вилијев и Ангелманов синдром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46816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деле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5q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очевог хромозома15 или матернална У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Прадер Вилијев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мајчиног хромозома 15 или патернална УД -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Ангелманов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Прадер Вилије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зак р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е шаке и стоп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гонозо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Q 20-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fig05-01"/>
          <p:cNvPicPr/>
          <p:nvPr/>
        </p:nvPicPr>
        <p:blipFill>
          <a:blip r:embed="rId1"/>
          <a:stretch/>
        </p:blipFill>
        <p:spPr>
          <a:xfrm>
            <a:off x="6095880" y="1905120"/>
            <a:ext cx="27622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Ангелмано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тој у разво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шкоћа у гов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акт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наглашен сме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Audrey_Short"/>
          <p:cNvPicPr/>
          <p:nvPr/>
        </p:nvPicPr>
        <p:blipFill>
          <a:blip r:embed="rId1"/>
          <a:stretch/>
        </p:blipFill>
        <p:spPr>
          <a:xfrm>
            <a:off x="4191120" y="3686040"/>
            <a:ext cx="2752560" cy="3171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Karsen_Allman_-_Deletion"/>
          <p:cNvPicPr/>
          <p:nvPr/>
        </p:nvPicPr>
        <p:blipFill>
          <a:blip r:embed="rId2"/>
          <a:stretch/>
        </p:blipFill>
        <p:spPr>
          <a:xfrm>
            <a:off x="6091200" y="1447920"/>
            <a:ext cx="3052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не и функционалне карактеристике ћелије зависе од протеина које та ћелија продукуј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ински састав ћелије зависи од транскрипције гена, транслације иРНК у протеине и постојаности самих проте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Транскрипциони ниво регулациј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228960" y="205704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х секвенци гена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is-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ент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от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ивачи (енх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гушивачи (сајл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аничне секвен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5680" y="2057040"/>
            <a:ext cx="464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 протеини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eнти)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Регулаторне секвенце гена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мотор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састоји од: срж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АТ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утије и стартне тачке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ксималне секвенц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спред промотора, на удаљености од око 200  нуклеотида, или у промотор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AАT, G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. Проксималне секвенце појачавају или ређе умањују интензитет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Енхенсери и сајленсери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даљени више хи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 нуклеотида испод промото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дисталне регулаторне секвенц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Транскрипциона јединица и регулаторне секвенц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6" descr="enhance1"/>
          <p:cNvPicPr/>
          <p:nvPr/>
        </p:nvPicPr>
        <p:blipFill>
          <a:blip r:embed="rId1"/>
          <a:stretch/>
        </p:blipFill>
        <p:spPr>
          <a:xfrm>
            <a:off x="228600" y="2057400"/>
            <a:ext cx="8534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Регулаторни протеини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енх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ТИВ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сајл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ХИБИТОРИ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РЕПРЕС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24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 регулаторн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НК везујућ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једни за дру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за РНК полимера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А ТРАНСКРИП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457200" y="2209680"/>
          <a:ext cx="822960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ормони као регулатори тран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рип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, тиреоидни, вит. А и Д - индуцибилни транскрипциони фа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cc"/>
                </a:solidFill>
                <a:latin typeface="Arial"/>
              </a:rPr>
              <a:t>Механизам дејства стероидних хормон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 хормон пролази мембрану ћелије и повезује се са интрацелуларним рецепторима, а затим тај комплекс ХОРМОН-РЕЦЕПТОР се повезује са енхенсером у транскрипционој јединици и укључи транскрипциј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осттранскрипциона регулација</a:t>
            </a:r>
            <a:r>
              <a:rPr b="0" lang="sr-CS" sz="44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инга - алтернативни сплајс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) транспорта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) стабилности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Контрола процесинга и алтернативни сплајсинг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ава да један ген детерминише  синтезу различит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intron5"/>
          <p:cNvPicPr/>
          <p:nvPr/>
        </p:nvPicPr>
        <p:blipFill>
          <a:blip r:embed="rId1"/>
          <a:stretch/>
        </p:blipFill>
        <p:spPr>
          <a:xfrm>
            <a:off x="990720" y="3962520"/>
            <a:ext cx="666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Контрола транспорта и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5% зрелих иРНК излази из једра и пређе у цитоплаз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НК које остају у једру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РН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цистронске РНК једра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вују у регулацији процеса транскрип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) Контрола стабилности 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 од дуж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негативне живе до 30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новљиве редоследе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 у кодирајућем реги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овљиве редоследе у некодирајућем региону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ји су продукти протеини присутни у свим ћелијама чине груп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ститутивних г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енг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usekeeping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е ћелије продукују већу количину специфичних протеина у одређеним ткивима и у одређеним периодима развој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еренцијална контрола експресије гена дешава се током различитих стадију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ЛА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дужине живота и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количине протеинске синт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Регулација дужине живота иРНК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Информозо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улационим механизмима је онемогућена траслација иРНК из ооците док не одмакне сегментација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 високој температури престаје синтеза већине протеина, али се активира синтеза протеина топлотног шока (који су одговорни за адаптацију ћелије на нове услове). После адаптације почиње синтеза уобичајених проте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Регулација количине протеинске синтез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нтеза глобинских ланаца према количини 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Посттранслациона рег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 транслатати нису одмах биолошки функцион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ивација се врши модулацијом у структури протеинског л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ни механизми 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сфор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икоз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замин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бокс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пање структуре помоћу шапер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авање протеина на одредишта у ћелији или ван ње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Пример активације примарног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интеза инсу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е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инсул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а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ци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сулин се састоји од два ланц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30 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human%20insulin"/>
          <p:cNvPicPr/>
          <p:nvPr/>
        </p:nvPicPr>
        <p:blipFill>
          <a:blip r:embed="rId1"/>
          <a:stretch/>
        </p:blipFill>
        <p:spPr>
          <a:xfrm>
            <a:off x="685800" y="1447920"/>
            <a:ext cx="6753240" cy="3838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438280" y="1905120"/>
            <a:ext cx="3200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66"/>
                </a:solidFill>
                <a:latin typeface="Arial Black"/>
              </a:rPr>
              <a:t>Хумани 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343400" y="2666880"/>
            <a:ext cx="106668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267080" y="3886200"/>
            <a:ext cx="10670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ки број гена је активан само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тки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или у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одр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еном перио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развић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ЕПИГЕНЕТ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ИЧ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К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А РЕГУЛАЦИЈА ЕКСПРЕСИЈЕ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ација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анскрипције и транслације се одвијај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има 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укљу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ч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искљу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Регулација синтезе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3048120" y="1143000"/>
          <a:ext cx="32032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143000"/>
                    <a:ext cx="3203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КРИП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ст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декондензација хроматин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плификација гена, генски реаранжмани, метилација ДНК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кондензација хроматин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стају хиперсензитивна ме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роматинска структура се своди  на ниво пер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г влак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Stages%20of%20gene%20activation"/>
          <p:cNvPicPr/>
          <p:nvPr/>
        </p:nvPicPr>
        <p:blipFill>
          <a:blip r:embed="rId1"/>
          <a:srcRect l="20521" t="14718" r="23366" b="0"/>
          <a:stretch/>
        </p:blipFill>
        <p:spPr>
          <a:xfrm>
            <a:off x="5638680" y="2362320"/>
            <a:ext cx="342900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) Амплификација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множавање броја гена - циљ је повећање количине продукта таквог гена ( нпр. у оогенез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ено је акумулирање великих количина РНК које ће функционисати у младом ембри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) Реаранжирање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омбиновање генских сегмената пре његове транскрипције,  нпр. диференцијација ћелија у којима се продукују анти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 потврде да се дешава у другим ћелијама сис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9:39Z</dcterms:modified>
  <cp:revision>77</cp:revision>
  <dc:subject/>
  <dc:title>2-Humani genom</dc:title>
</cp:coreProperties>
</file>