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F1E-22BC-4324-B7E3-6931612C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74A-8594-4C90-A78A-A2D2EEE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680-D793-4A95-90CD-5DA5E0EA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733-A04C-4481-BC3F-8DB2B4C2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DD6-D489-4512-8EEF-FB71CFCF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8E1-EB4F-4A4C-9193-4CF68A1E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07E-ABF7-4B16-BD86-2EBD969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737-A66C-4F2B-8631-DF5F3BAB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01C1-ADFF-402D-B766-5697209B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EAA7-66ED-46E0-A406-C93EA8F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D815-8E7D-4A2A-A4E9-AE83114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130-AF0E-4D06-969F-DBAD1F9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F027-96ED-4109-AECD-D2EBAE29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C316-FBD0-4440-A55B-07F046A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3513-5047-4F1F-A66F-DF5263F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62E-9B95-4B55-84B3-9B850604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3DDA-9AF5-408E-B957-0A0FE161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4100-690B-42E1-98DE-15F4990F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ADCF-506C-4BAD-B44E-B021856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74B6-47D3-4C3B-8C5F-2E8F24A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AF5E-C2E2-460D-B1BD-113F4F4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1A84-42A2-4BFC-9B9F-1BF6ED6D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4BF-C498-4A1E-AA57-2EA606B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5891-B173-45D2-BB2E-349BB79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55CF-E5B7-4F09-9400-9486ECA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B197-628D-4693-A612-08FC9A4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24E3-DF91-4812-A9CF-9AA0CA9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7FDA-3B47-4EA5-8259-8134EE06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901D-A283-4725-AF76-3CE2051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6CE2-7DD8-4E8E-B9EF-252208A5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39B5-F9EE-423C-8BF3-AE99A884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5001-FBFB-47F6-A67A-D1BD0B5F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4B24-E421-4F9B-A014-DAA5C33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961-3707-40A6-B1E0-D29B58F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DF27-FA11-4FB6-91BD-016EFB8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F954-50D0-4A8D-82EB-331DFDF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9865-AE27-4F96-9864-B3E04EB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B684-8FC2-41D6-B480-6ED23AF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8DDF-50F0-4F5B-B862-3C7C515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2FB3-41EA-4AC7-8969-519E0A1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94F9-0D39-4CEC-B2A3-60B7A3D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D63D-C790-43F7-8260-C6CCF1A0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C09B-84B3-456D-A9E0-CFFC474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4C9-9D4F-4F6F-89B2-6E98E2D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32F-FA9C-4431-82CD-BD5A454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22C-05F0-4A07-9D3A-0EB2F2C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4B2-A691-4D23-97C9-EC7D397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F51-AB01-4F47-B5F3-ADA5E23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2241-3B33-4D9D-9BA5-9AD66A1AA3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70F7-E6B2-4E53-BE1B-24A4E2FB20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7CEF-EBAB-4A2F-AD0E-A5DE0C0E43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1C0D-C322-412F-86F2-E69DD639B8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GdTTCRw1sw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_f-8ISZ164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Л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Полирибозо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rcRect l="52500" t="32646" r="0" b="42226"/>
          <a:stretch/>
        </p:blipFill>
        <p:spPr>
          <a:xfrm>
            <a:off x="1828800" y="1981080"/>
            <a:ext cx="4803840" cy="190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rcRect l="52500" t="62976" r="0" b="8882"/>
          <a:stretch/>
        </p:blipFill>
        <p:spPr>
          <a:xfrm>
            <a:off x="1600200" y="4191120"/>
            <a:ext cx="52880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9800" y="29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д, кодон, антикодо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9440" y="1792080"/>
            <a:ext cx="3721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4191120" y="1798560"/>
            <a:ext cx="4680000" cy="400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990720" y="4618080"/>
            <a:ext cx="293976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0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ођење информ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190476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НК са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киселин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7038" t="2321" r="0" b="16367"/>
          <a:stretch/>
        </p:blipFill>
        <p:spPr>
          <a:xfrm>
            <a:off x="4813200" y="2432160"/>
            <a:ext cx="433080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тРНК са аминокиселин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0120" y="2011320"/>
            <a:ext cx="7943760" cy="43894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866960" y="621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+АТ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~Е~АМ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~АМП+тРНК-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РНК~Ак+Е+А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s://www.youtube.com/watch?v=1GdTTCRw1sw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3244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784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3886200" y="203040"/>
            <a:ext cx="4235400" cy="6654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"/>
          <p:cNvGrpSpPr/>
          <p:nvPr/>
        </p:nvGrpSpPr>
        <p:grpSpPr>
          <a:xfrm>
            <a:off x="762120" y="3073320"/>
            <a:ext cx="2590560" cy="2338560"/>
            <a:chOff x="762120" y="3073320"/>
            <a:chExt cx="2590560" cy="2338560"/>
          </a:xfrm>
        </p:grpSpPr>
        <p:pic>
          <p:nvPicPr>
            <p:cNvPr id="212" name="Picture 1" descr=""/>
            <p:cNvPicPr/>
            <p:nvPr/>
          </p:nvPicPr>
          <p:blipFill>
            <a:blip r:embed="rId3"/>
            <a:stretch/>
          </p:blipFill>
          <p:spPr>
            <a:xfrm>
              <a:off x="891000" y="3304080"/>
              <a:ext cx="23648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Oval 2"/>
            <p:cNvSpPr/>
            <p:nvPr/>
          </p:nvSpPr>
          <p:spPr>
            <a:xfrm>
              <a:off x="762120" y="3073320"/>
              <a:ext cx="2590560" cy="233856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5translation"/>
          <p:cNvPicPr/>
          <p:nvPr/>
        </p:nvPicPr>
        <p:blipFill>
          <a:blip r:embed="rId1"/>
          <a:stretch/>
        </p:blipFill>
        <p:spPr>
          <a:xfrm>
            <a:off x="2819520" y="1828800"/>
            <a:ext cx="5029200" cy="484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page9image12762768"/>
          <p:cNvPicPr/>
          <p:nvPr/>
        </p:nvPicPr>
        <p:blipFill>
          <a:blip r:embed="rId2"/>
          <a:stretch/>
        </p:blipFill>
        <p:spPr>
          <a:xfrm>
            <a:off x="291960" y="2971800"/>
            <a:ext cx="2006640" cy="1925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. Термина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трансл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921040" y="1611360"/>
            <a:ext cx="355608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и </a:t>
            </a: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40840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8_f-8ISZ1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rcRect l="12500" t="35003" r="18752" b="0"/>
          <a:stretch/>
        </p:blipFill>
        <p:spPr>
          <a:xfrm>
            <a:off x="2057400" y="327672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3-10-06T12:52:09Z</dcterms:modified>
  <cp:revision>184</cp:revision>
  <dc:subject/>
  <dc:title>2-Humani genom</dc:title>
</cp:coreProperties>
</file>