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7E5-95DF-4091-AD00-5908EF32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005-F347-47AC-ACCC-48F9B7FB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BF1-6F7C-40C5-B3FA-7A49C872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723-0DE7-48E8-8F5B-9729304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8C6-8394-46CA-8BD1-04B4F92E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7A7-DA93-496B-A3BB-498D7C6A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CEA-AFDC-4629-9AE5-80EAA22F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307A-FB5E-4E99-9C4A-1D4F7875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83AE-4E45-499D-900E-D5C31EB6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0257-552D-4791-9F04-62408CF9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42C-4E9B-44BE-A25B-03648D3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B94-CB30-48DC-B872-B59DB96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BCF5-FDE6-4B3B-9F36-9609439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76B-A14C-44DE-B7FC-BFB1D253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E21-09E9-4468-9033-E0A4AB6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068E-CD01-4395-9697-08C898B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295-7999-49B5-8ABA-623AC1C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55A-FC42-4C73-867C-AB7D2AA5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A5BC-75C9-494C-80D9-75ED9B8F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8AFC-D296-4118-838B-7E8D7881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EE8B-3B3F-4201-BB82-8CAA1B55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7765-9172-421E-AABD-42B7D3B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9FA2-7305-4A63-AF9F-8EC1CE6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BD70-932D-48CA-A42B-629D8F04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A19-5F4B-49B4-857F-6F15A02A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C943-EE6B-4294-9C3F-62C18C4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C464-76E4-4AC7-95E2-9CE71DB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2481-2AED-4C99-8D97-0B4FA57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E8EF-4F34-4ADA-90A7-8E3B9FC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411F-1116-42F7-B493-35CEFC3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01AD-30E2-4F57-9CC6-5395A7AB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40FF-4289-4A57-B2ED-BDDA773C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6DDE-C60A-4A64-9D12-077AF0E2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6FCD-2922-48FB-A921-3E9EA8F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CAD7-E1BA-4301-86D9-43AE7855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C77-C85F-40A5-9EF4-04B570F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2A7F-6DDD-4A23-AC35-04D6FD5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CC8F-130C-4163-8BD6-CA65CD2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1F27-A50F-4746-8F2E-0FEB750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9F58-6E90-4B6E-84B9-647DF7D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3FCC-2CC1-4ACA-956B-B7B9B4E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A9DE-5FBE-488C-92C4-DCB2608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CFFB-BF83-411D-B331-2DB5C776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CFF9-7CD8-4023-B76D-3FE10546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4C65-2A59-48B3-800B-605E98DE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5C9-BCE5-40C1-A5BD-852C023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CC3-AD40-4C54-828E-9804C1F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5C7-799E-4597-85CE-E2F2533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6DE-A171-4DD3-9CA9-5B740E0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4DC-2A75-464D-9B28-39026D5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23F9-6C0B-4115-AC95-ECE4FDB767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81B-0DF0-4B19-95E9-C48857436F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AA4-13D9-4524-9D82-595BCD5B32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C2C-FB02-4685-B09F-6088B3042D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ites.google.com/a/maine207.org/biology/u2_dna_gene/u2_videos_anima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КРИП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2" descr=""/>
          <p:cNvPicPr/>
          <p:nvPr/>
        </p:nvPicPr>
        <p:blipFill>
          <a:blip r:embed="rId1"/>
          <a:stretch/>
        </p:blipFill>
        <p:spPr>
          <a:xfrm>
            <a:off x="685800" y="2722680"/>
            <a:ext cx="3106800" cy="339696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5" descr=""/>
          <p:cNvPicPr/>
          <p:nvPr/>
        </p:nvPicPr>
        <p:blipFill>
          <a:blip r:embed="rId2"/>
          <a:stretch/>
        </p:blipFill>
        <p:spPr>
          <a:xfrm>
            <a:off x="4952880" y="2556000"/>
            <a:ext cx="3364200" cy="37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525600" y="1104840"/>
            <a:ext cx="8466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ћу протеина терминације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o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амо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Новостворена иРНК није стабилна и биолошки функционал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транскрибовања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ке секвен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ификованих нуклеотида назване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C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додају на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5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помоћ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G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логу у повезивању иРНК за рибозо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терминације н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специјална полимераза додаје  око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уклеотида аден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формирајући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poly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ре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у изласку и даљој обради зреле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Eukaryotic posttranscriptional process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транскрип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sites.google.com/a/maine207.org/biology/u2_dna_gene/u2_videos_anim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је п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оцес преписива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не секвенце ДНК на РНК (иРНК, тРНК, р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вија се </a:t>
            </a:r>
            <a:r>
              <a:rPr b="0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у јед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код еукариота  је слич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и код прокарио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а разлике су следећ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оне јединице су моноцистронск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695840" y="2286000"/>
            <a:ext cx="4457520" cy="27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23047" t="23440" r="6640" b="7510"/>
          <a:stretch/>
        </p:blipFill>
        <p:spPr>
          <a:xfrm>
            <a:off x="114480" y="2057400"/>
            <a:ext cx="4457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еукариота је дисконтинуиране грађе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12499" r="0" b="0"/>
          <a:stretch/>
        </p:blipFill>
        <p:spPr>
          <a:xfrm>
            <a:off x="1143000" y="1876320"/>
            <a:ext cx="64436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типа РНК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мер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почет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опходно учешће транскрипционих фак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. За време транскрипције и после ње врши се процесинг (посттранскрипциона модификација 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1098720" y="1506600"/>
            <a:ext cx="69465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Ензим РНК полимер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42424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ло ензим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четири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убјединиц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ктор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је лабавом везом повезан са телом ензима и заједно чине холоенз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Content Placeholder 5" descr=""/>
          <p:cNvPicPr/>
          <p:nvPr/>
        </p:nvPicPr>
        <p:blipFill>
          <a:blip r:embed="rId1"/>
          <a:stretch/>
        </p:blipFill>
        <p:spPr>
          <a:xfrm>
            <a:off x="5105520" y="2347920"/>
            <a:ext cx="388620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Content Placeholder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019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609480" y="3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240" y="20574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повезив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РНК полимераз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о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rcRect l="52709" t="10000" r="5768" b="7150"/>
          <a:stretch/>
        </p:blipFill>
        <p:spPr>
          <a:xfrm>
            <a:off x="4572000" y="1295280"/>
            <a:ext cx="356868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676160" y="79668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53240" cy="473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9-10-01T13:13:19Z</dcterms:modified>
  <cp:revision>179</cp:revision>
  <dc:subject/>
  <dc:title>2-Humani genom</dc:title>
</cp:coreProperties>
</file>